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D20-EF64-4FDA-9CC7-4EEBEDE3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E81-6E06-4735-B28E-032A7A09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4C8-E3C5-4E96-A12E-29B6C12C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E99-36C6-44E5-8286-21BF99CD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F6F-AD88-4CA8-ADC1-03F48138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BAD-8A25-40C1-9B74-A4FE81D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1FD-B171-433E-AE27-542B1C2E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858-71C4-4D51-BBAC-E036535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DD4-A7CC-43D5-8DD7-53986FF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51D-82FF-4779-8FC0-390186D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982-5D65-4ED4-B678-27CA213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16F-7A93-4BC1-8B30-5E7CDAC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60F-5183-4A68-B7FF-E702E43C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3:47Z</dcterms:modified>
  <cp:revision>40</cp:revision>
  <dc:subject/>
  <dc:title>スライド 1</dc:title>
</cp:coreProperties>
</file>